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35A-1577-4BCD-8E35-20F7D5B9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8DF-9D35-4A6F-B734-B4C1B2CC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55A-BD28-407B-84B9-8DC6D668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1BA-6FA1-4AD5-B6C8-3FEE5E8C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BAA-4311-42E2-AAA4-C7B0CA34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D05-9C09-44A2-AE06-50EA2E40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1DB-7293-4044-B3F5-EBF235CF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0B6-C510-421C-848E-68A47BD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9F7-C9A2-4AA2-A0BB-08375259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4E7-E551-4216-B99B-AB9C9275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A7D-CE59-4360-BF08-DC6521E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870-5F27-4383-B768-FF335872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985-3E7E-4340-9678-54C8310B1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27720" y="0"/>
            <a:ext cx="2816280" cy="2111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4659480"/>
            <a:ext cx="4343400" cy="219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5880" y="4681440"/>
            <a:ext cx="3048120" cy="217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29000" y="0"/>
            <a:ext cx="2895480" cy="2544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447920" y="0"/>
            <a:ext cx="2028600" cy="304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14110" t="0" r="0" b="0"/>
          <a:stretch/>
        </p:blipFill>
        <p:spPr>
          <a:xfrm>
            <a:off x="0" y="1457280"/>
            <a:ext cx="1855800" cy="1438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-4610160" y="-4748040"/>
            <a:ext cx="202104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2895480"/>
            <a:ext cx="167472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990720" y="4106880"/>
            <a:ext cx="1295280" cy="124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867280" y="205740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rcRect l="10715" t="10162" r="10715" b="12832"/>
          <a:stretch/>
        </p:blipFill>
        <p:spPr>
          <a:xfrm>
            <a:off x="0" y="53611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1371600" y="16765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1430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1828800" y="1454040"/>
            <a:ext cx="563868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4:29Z</dcterms:created>
  <dc:creator>MD Anderson Cancer Center</dc:creator>
  <dc:description/>
  <dc:language>en-US</dc:language>
  <cp:lastModifiedBy>MD Anderson Cancer Center</cp:lastModifiedBy>
  <dcterms:modified xsi:type="dcterms:W3CDTF">2010-10-21T03:49:35Z</dcterms:modified>
  <cp:revision>1</cp:revision>
  <dc:subject/>
  <dc:title>PowerPoint Presentation</dc:title>
</cp:coreProperties>
</file>